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5A8-64E5-4381-B207-80D6D1A8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287-809B-4595-ACFB-F0308159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4B0-8563-4956-A0EB-60F5C5361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1573-B5E7-47C6-84E0-95EAEB79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924F-F94C-46FC-871D-EC957724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3F28-A0BF-44FD-8453-2ED17F01C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74C0-70EC-4C7C-BBA3-5319E1B2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4D45-FB80-44CB-81E4-39A59AA1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ED4-1EA5-4EDC-8ED0-1648E16D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8C22-3FEE-4BFC-BE50-88E11EF4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AF341-685C-45A1-8D5E-BA745A3B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033E-AACD-48B5-90B4-2C2BF720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507A-9001-4C6F-A544-14D2F00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B842-FE0A-44AC-8150-BC36E47F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65BA-4681-4A87-B9ED-C9A90D78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1894-7216-4B3E-BD81-61564A9C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AB9A-1B71-4F34-8AAD-64946518C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2993D-5999-4B77-B52B-B519B8A5B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CCC0C-1330-4D67-A7FA-21E34A4E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3C89-53E4-42CB-846D-0684B111F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552C4-2418-4072-B403-4CF96F76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65E8F-6272-43FE-9CDD-573325ED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19ED-AAB6-45C9-A7FB-21C72137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5838-75CE-4F48-804F-5B0C2359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155CB-1EB3-4DC0-B6CB-385B989E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3E8F-1A99-4AD9-A8E8-1E936776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A434E-A43C-41A3-AC16-422C2DEF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2A527-5BA2-4504-BA34-E0A91734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CBECF-3DAF-4FE0-8D78-25E4FC13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F0FDD-5BF9-47F1-9429-2BB19F1C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740A-6F6D-43FF-88D4-673DB86C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E8F1-1B56-4F00-BE92-C52BDC36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3726-EDA8-4978-905F-F598074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1FD3-77A4-4879-A132-099E49B4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971FB-84EA-4669-B316-8E5A4733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EB860-FED4-4E85-A508-7E00519F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EBE2-8FD3-408A-A0BB-E793CC66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1EA0-14DE-4084-853A-BD63E05D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558EF-1242-494E-B328-56A5741C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A692E-DA9F-4113-8BED-873220C2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5E334-2363-4D47-99BA-D083048C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897B0-C443-48BD-88FF-1772DCD90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AC0BF-B31D-4348-A22D-CDD6BEBF8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39347-7AE6-4ADE-AF88-9FD325C7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E911-5105-4E0D-8F22-8DBC0328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D0CE6-32C8-44BF-B2F1-7163ED06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E3E1B-48D9-4D54-8237-817327AC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5C5A1-4861-4F45-BB3E-832F9C4A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C44AC-457F-4FA9-A918-98CB0320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74412-696B-4BFA-90D7-28A6DA40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CCE8B-8FD5-4CB4-8F55-B5D707BD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9B7BA-0562-47E5-9ACB-81B258D5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71329-B4D2-4F68-9226-5F2DCE32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5369E-B379-4278-ACA4-73113B88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747CB-82BD-4ED0-922D-A21279F49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4040"/>
            <a:ext cx="7772400" cy="699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BF7-791D-42C9-99BD-B388ACA6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20113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209120"/>
            <a:ext cx="250236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05E76-047A-413C-853D-9406C464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CD10-127C-45C2-9B6B-0D15EB24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091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4E5-6902-44E3-B118-20B68B12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11320"/>
            <a:ext cx="37926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09120"/>
            <a:ext cx="7772400" cy="200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D5A-A874-472F-AA3F-5E83DC51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76040"/>
            <a:ext cx="914256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5FFF6-4FBC-4502-B955-8999E705E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FA5096-5061-48BB-B04E-B29330DE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-4680" y="2058840"/>
            <a:ext cx="9147240" cy="1828800"/>
          </a:xfrm>
          <a:prstGeom prst="rect">
            <a:avLst/>
          </a:prstGeom>
          <a:solidFill>
            <a:srgbClr val="099b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2f2f2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2f2f2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2c2c2c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2c2c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2c2c2c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99bd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763C4-B58B-4BFD-BE0B-36293B958300}" type="slidenum">
              <a:rPr b="0" lang="en-US" sz="1200" spc="-1" strike="noStrike">
                <a:solidFill>
                  <a:srgbClr val="099bd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1120" y="6423120"/>
            <a:ext cx="2595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4191120" y="642312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8264160" y="6423120"/>
            <a:ext cx="7095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97103-4D6B-4036-9597-2272C14E5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99b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6764400" y="0"/>
            <a:ext cx="2057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4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5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6" marL="10969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28200" y="64231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832120" y="6423120"/>
            <a:ext cx="3209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054840" y="6423120"/>
            <a:ext cx="660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46766-D798-4BC2-814D-98D881579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74680" y="2166480"/>
            <a:ext cx="8602560" cy="17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99bdd"/>
                </a:solidFill>
                <a:latin typeface="Corbel"/>
              </a:rPr>
              <a:t>SKY SOLUTIONS</a:t>
            </a:r>
            <a:endParaRPr b="0" lang="en-US" sz="6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143000" y="39704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cident Respon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Risk Categories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reak-i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reak-in in a single system at NASA delayed a launc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ystem was mission critica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eeded to be recertified before launch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Unauthorized execution of programs or command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vilege Escalation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ploitation of CGI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eb servers have frequently cgi scripts installed for demonstration purposes.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se have known weakness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nial of Service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Web Deface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irus and worm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alicious active cont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ack door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oof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ssion tampering, hijacking, repla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ermining Risk Probabilit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ect data within the organiz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llect data by other organizatio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ERT Coordinating Cent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National Infrastructure Protection Center NPIC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Vulnerability Analysi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ERT, ALLDAS, ANTIONLIN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tructure and Organiz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cidents create pandemoniu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cidents occur in burs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fficien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cilitates the process of responding to incident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cilitates dealing with the unexpected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Legal Consideration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520560" y="917640"/>
            <a:ext cx="81550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99bdd"/>
                </a:solidFill>
                <a:latin typeface="Corbel"/>
                <a:ea typeface="Calibri"/>
              </a:rPr>
              <a:t>INCIDENT RESPONSE PLAN (IRP)</a:t>
            </a:r>
            <a:endParaRPr b="0" lang="en-US" sz="33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533520" y="198108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625320" y="2819520"/>
            <a:ext cx="1447920" cy="4572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81120" y="3490920"/>
            <a:ext cx="1371600" cy="60624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ainm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amp; Escal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625320" y="43210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ysis &amp;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ad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AutoShape 9"/>
          <p:cNvSpPr/>
          <p:nvPr/>
        </p:nvSpPr>
        <p:spPr>
          <a:xfrm>
            <a:off x="655560" y="527832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AutoShape 10"/>
          <p:cNvSpPr/>
          <p:nvPr/>
        </p:nvSpPr>
        <p:spPr>
          <a:xfrm>
            <a:off x="685800" y="6012000"/>
            <a:ext cx="1341360" cy="53316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sson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rn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250" name="AutoShape 11"/>
          <p:cNvCxnSpPr>
            <a:stCxn id="244" idx="2"/>
            <a:endCxn id="245" idx="0"/>
          </p:cNvCxnSpPr>
          <p:nvPr/>
        </p:nvCxnSpPr>
        <p:spPr>
          <a:xfrm flipH="1" rot="16200000">
            <a:off x="1150560" y="2620440"/>
            <a:ext cx="381960" cy="165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1" name="AutoShape 12"/>
          <p:cNvCxnSpPr>
            <a:stCxn id="245" idx="2"/>
            <a:endCxn id="246" idx="0"/>
          </p:cNvCxnSpPr>
          <p:nvPr/>
        </p:nvCxnSpPr>
        <p:spPr>
          <a:xfrm flipH="1" rot="16200000">
            <a:off x="1249920" y="3374640"/>
            <a:ext cx="214920" cy="1836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2" name="AutoShape 13"/>
          <p:cNvCxnSpPr>
            <a:stCxn id="246" idx="2"/>
            <a:endCxn id="247" idx="0"/>
          </p:cNvCxnSpPr>
          <p:nvPr/>
        </p:nvCxnSpPr>
        <p:spPr>
          <a:xfrm rot="5400000">
            <a:off x="1245240" y="4200120"/>
            <a:ext cx="224640" cy="1836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3" name="AutoShape 14"/>
          <p:cNvCxnSpPr>
            <a:stCxn id="247" idx="2"/>
            <a:endCxn id="248" idx="0"/>
          </p:cNvCxnSpPr>
          <p:nvPr/>
        </p:nvCxnSpPr>
        <p:spPr>
          <a:xfrm rot="5400000">
            <a:off x="1208880" y="5138640"/>
            <a:ext cx="272160" cy="8640"/>
          </a:xfrm>
          <a:prstGeom prst="bentConnector3">
            <a:avLst>
              <a:gd name="adj1" fmla="val 4993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54" name="AutoShape 15"/>
          <p:cNvCxnSpPr>
            <a:stCxn id="248" idx="2"/>
            <a:endCxn id="249" idx="0"/>
          </p:cNvCxnSpPr>
          <p:nvPr/>
        </p:nvCxnSpPr>
        <p:spPr>
          <a:xfrm flipH="1" rot="16200000">
            <a:off x="1248480" y="5904360"/>
            <a:ext cx="200880" cy="15120"/>
          </a:xfrm>
          <a:prstGeom prst="bentConnector3">
            <a:avLst>
              <a:gd name="adj1" fmla="val 4991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55" name="Text Box 16"/>
          <p:cNvSpPr/>
          <p:nvPr/>
        </p:nvSpPr>
        <p:spPr>
          <a:xfrm>
            <a:off x="2424960" y="20937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PRIOR to Incid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2272320" y="2909880"/>
            <a:ext cx="35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what is/has happened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2417760" y="34909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mit inciden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2218680" y="433548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rmine and remov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 cause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421360" y="520236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urn operation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norma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269800" y="5958000"/>
            <a:ext cx="24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ss improvement: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for the futu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724280" y="432108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ica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4724280" y="5195880"/>
            <a:ext cx="1371600" cy="533520"/>
          </a:xfrm>
          <a:prstGeom prst="roundRect">
            <a:avLst>
              <a:gd name="adj" fmla="val 16667"/>
            </a:avLst>
          </a:prstGeom>
          <a:solidFill>
            <a:srgbClr val="25252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-Pos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cxnSp>
        <p:nvCxnSpPr>
          <p:cNvPr id="263" name="Elbow Connector 23"/>
          <p:cNvCxnSpPr>
            <a:stCxn id="246" idx="2"/>
            <a:endCxn id="261" idx="0"/>
          </p:cNvCxnSpPr>
          <p:nvPr/>
        </p:nvCxnSpPr>
        <p:spPr>
          <a:xfrm flipH="1" rot="16200000">
            <a:off x="3275640" y="2187360"/>
            <a:ext cx="224640" cy="4043880"/>
          </a:xfrm>
          <a:prstGeom prst="bentConnector3">
            <a:avLst>
              <a:gd name="adj1" fmla="val 49919"/>
            </a:avLst>
          </a:prstGeom>
          <a:ln w="9360">
            <a:solidFill>
              <a:srgbClr val="ffffff"/>
            </a:solidFill>
            <a:round/>
            <a:tailEnd len="med" type="arrow" w="med"/>
          </a:ln>
        </p:spPr>
      </p:cxnSp>
      <p:cxnSp>
        <p:nvCxnSpPr>
          <p:cNvPr id="264" name="Straight Arrow Connector 25"/>
          <p:cNvCxnSpPr>
            <a:stCxn id="261" idx="2"/>
            <a:endCxn id="262" idx="0"/>
          </p:cNvCxnSpPr>
          <p:nvPr/>
        </p:nvCxnSpPr>
        <p:spPr>
          <a:xfrm>
            <a:off x="5409720" y="4778280"/>
            <a:ext cx="1080" cy="4183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65" name="TextBox 26"/>
          <p:cNvSpPr/>
          <p:nvPr/>
        </p:nvSpPr>
        <p:spPr>
          <a:xfrm>
            <a:off x="6218640" y="430380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fy any data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each victim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TextBox 27"/>
          <p:cNvSpPr/>
          <p:nvPr/>
        </p:nvSpPr>
        <p:spPr>
          <a:xfrm>
            <a:off x="2432160" y="384012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If data breach]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TextBox 11263"/>
          <p:cNvSpPr/>
          <p:nvPr/>
        </p:nvSpPr>
        <p:spPr>
          <a:xfrm>
            <a:off x="6356520" y="5222880"/>
            <a:ext cx="227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tablish call center,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aration activiti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epar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tting up a reasonable set of defenses and controls based on thread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reating a set of procedures to deal with the incident efficientl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btaining the resources and personnel to deal with the proble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stablish an infrastructure to support incident response activ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ec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rusion Detection System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tection Softwar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orbel"/>
              </a:rPr>
              <a:t>Report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99bdd"/>
                </a:solidFill>
                <a:latin typeface="Corbel"/>
                <a:ea typeface="Calibri"/>
              </a:rPr>
              <a:t>LOGS TO COLLECT &amp; MONITOR</a:t>
            </a:r>
            <a:endParaRPr b="0" lang="en-US" sz="36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273" name="Content Placeholder 3" descr=""/>
          <p:cNvPicPr/>
          <p:nvPr/>
        </p:nvPicPr>
        <p:blipFill>
          <a:blip r:embed="rId1"/>
          <a:stretch/>
        </p:blipFill>
        <p:spPr>
          <a:xfrm>
            <a:off x="407880" y="1981080"/>
            <a:ext cx="840132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MANAGEMENT METRIC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# of Reported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# of Detected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erage time to respond to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verage time to resolve an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tal number of incidents successfully resolve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active &amp; Preventative measures take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tal damage from reported or detected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otal damage if incidents had not been contained in a timely manne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ontainm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trategi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hutting down a syste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connect from the network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hange filtering rules of firewal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Disabling or deleting compromised accoun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creasing monitoring level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tting trap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riking back at the attacker’s system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hering to containment procedure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cord all action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efine acceptable risks in advanc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Business Continuity Planning: deals wi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utage: Due to natural disasters, electrical failures, …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: deals wit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verse events that threaten secur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radication: Eliminate th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orbel"/>
              </a:rPr>
              <a:t>cause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of the inciden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oftware available for most virus, worm attack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cedures are </a:t>
            </a:r>
            <a:r>
              <a:rPr b="0" lang="en-US" sz="2200" spc="-1" strike="noStrike" u="sng">
                <a:solidFill>
                  <a:srgbClr val="ffffff"/>
                </a:solidFill>
                <a:uFillTx/>
                <a:latin typeface="Corbel"/>
              </a:rPr>
              <a:t>very</a:t>
            </a: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 importan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radication in Windows Syste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-380880" y="2590920"/>
            <a:ext cx="510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3" marL="415800" indent="-59400">
              <a:lnSpc>
                <a:spcPct val="100000"/>
              </a:lnSpc>
              <a:spcBef>
                <a:spcPts val="499"/>
              </a:spcBef>
              <a:buClr>
                <a:srgbClr val="a5d028"/>
              </a:buClr>
              <a:buSzPct val="55000"/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nsure that the following have not been modifi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ll .dll fil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ial-in setting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r manager for domain setting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192960" indent="-7416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192960" indent="-74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3276720" y="2590920"/>
            <a:ext cx="5486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ll logon scrip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he integrity of all registry keys and values below Winlogon and LSA in the regist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un entries in regist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mbership in all privileged group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637560" indent="-7056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ystem and user profil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182600" y="20174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radication in Windows 2012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-380880" y="2590920"/>
            <a:ext cx="5105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2000"/>
          </a:bodyPr>
          <a:p>
            <a:pPr lvl="3" marL="351720" indent="-50040">
              <a:lnSpc>
                <a:spcPct val="100000"/>
              </a:lnSpc>
              <a:spcBef>
                <a:spcPts val="499"/>
              </a:spcBef>
              <a:buClr>
                <a:srgbClr val="a5d028"/>
              </a:buClr>
              <a:buSzPct val="55000"/>
              <a:buFont typeface="Wingdings" charset="2"/>
              <a:buChar char="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that the following have not been modifi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urity Accounts Manager (SAM) Databas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rvic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.dll fil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edul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y setting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452520" indent="-5004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bership in privileged group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163440" indent="-62640">
              <a:lnSpc>
                <a:spcPct val="100000"/>
              </a:lnSpc>
              <a:spcBef>
                <a:spcPts val="700"/>
              </a:spcBef>
              <a:buClr>
                <a:srgbClr val="005dba"/>
              </a:buClr>
              <a:buSzPct val="55000"/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163440" indent="-6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3276720" y="2590920"/>
            <a:ext cx="5486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logon script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security option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permissions for Active Directo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DNS setting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egistry keys and values under Winlogon and Run in the registr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4" marL="534600" indent="-5940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SzPct val="50000"/>
              <a:buFont typeface="Wingdings" charset="2"/>
              <a:buChar char="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missions and ownerships in \%systemroot%\ntds …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PENETRATION TESTING METHOD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External Testing:  Tests from outside network perimeter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Internal Testing: Tests from within network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Blind Testing:  Penetration tester knows nothing in advance and must do web research on compan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Double Blind Testing: System and security administrators also are not aware of tes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Targeted Testing:  Have internal information about a target.  May have access to an account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Tahoma"/>
              </a:rPr>
              <a:t>Written permission must always be obtained first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covery: Return compromised systems back to its normal mission statu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covery procedures: Safest is: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ull rebuilt for system files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store data from last backup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cord every ac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eep users aware of statu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covery: Return compromised systems back to its normal mission statu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vise appropriate people of major developments that might affect the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here to policy regarding media contac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turn logging to normal leve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stall patches for any exploited vulnerabil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llow-Up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erform a post mortem analysis on each significant inciden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xact description and timelin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Adequacy of staff respons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at information was needed at what tim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at would the staff do differently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How was interaction with management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What was the damage?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ollow-Up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Use for legal reasons: forensically sound eviden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cludes monetary damage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evaluation and modification of staff respons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Example: Break-in at Human Genome database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Nobody knew who had called when more info was needed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  <a:p>
            <a:pPr lvl="3" marL="8683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rbel"/>
              </a:rPr>
              <a:t>Gap in procedure was remedied during follow-up.</a:t>
            </a:r>
            <a:endParaRPr b="0" lang="en-US" sz="1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METHODOLOGY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37720" y="2017800"/>
            <a:ext cx="81169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ummary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thodology is needed to deal with quickly evolving, chaotic situatio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akes time to implement and to lear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 mock events for training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tages flow into each other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ethodology needs to be tailored to situ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ollow-up needed to improve and adapt methodolog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32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FORMING AND MANAGING AN IR-TEAM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 team vs. incident handl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IA related incidents: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fidential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tegr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vailabil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ther Typ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connaissance Attack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Repudiation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omeone takes action and denies it later on.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32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FORMING AND MANAGING AN IR-TEAM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asons for outsourcing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ecialists can maintain and add to a complex skill se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ecialists can charge for servic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mpany might lack resourc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mall organizations do not need a team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32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FORMING AND MANAGING AN IR-TEAM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asons for in-house incident response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ensitive data is better handled by employee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 house team responds better to corporate cultur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WHY AN INCIDENT TEAM?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xpertis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fficiency.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work proactively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meet agency or corporate requirement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eams serve as liaison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deal with institutional barrier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ASIC REQUIREMENT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rol over incidents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Full control over incident and data / resources involve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ontrol shar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or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dvisory rol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BASIC REQUIREMENT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teragency / corporation coordination / liais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learinghous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ntingency planning and business continuity servi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formation security develop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 planning and analysi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Training and awarenes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DETERMINING / DEALING WITH CONSTITUENCY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dentify constituen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ys Ads are different than general user population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ilure of dealing adequately with constituency leads to long-term failur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3200" spc="-1" strike="noStrike">
                <a:solidFill>
                  <a:srgbClr val="099bdd"/>
                </a:solidFill>
                <a:latin typeface="Corbel"/>
              </a:rPr>
              <a:t>DETERMINING / DEALING WITH CONSTITUENCY</a:t>
            </a:r>
            <a:endParaRPr b="0" lang="en-US" sz="32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Failures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Not getting back to an incident reporter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preading misinform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ecoming too intrusive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Causing embarrassment or leaking information without authoriz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etrayal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SUCCESS METRIC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Good security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No incident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kes success metrics difficult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r. of inciden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timated financial loss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lf-evaluation / questionnair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ritten or verbal reports by constituency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verage time and manpower per incid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Documentation by team member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wards / other forms of external recogni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ORGANIZATION OF IR TEAM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raining the team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entoring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lf-Stud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ours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Library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Exercis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Testing the team / procedur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aling with resistanc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udget: not a revenue source, hard to quantify impac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Management reluctanc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Organizational resistance: rival organizations, turf warfar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Internal politic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User awarenes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: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ORGANIZATION OF IR TEAM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External Coordination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Law Enforcemen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Media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Other Incident Response Team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nfraguard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naging Incident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Bursty load: surviving the long hau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ssigning incident ownership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racking chart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Priorization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arassmen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Extort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ornography Trafficking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rganized Crime Activity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ubversio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Bogus financial server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oax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ROLES AND RESPONSIBILITIE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 Lea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Handl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ecurity Operation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Engineering Team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Legal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LEAD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anager or Team Lead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Oversees all of the incident response role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ssigns incidents to respective team handle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pproves closeout of inciden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Briefs senior management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Meets with authorities if data breach involves customer data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HANDLER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Responsible for executing IR plan and procedur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clares when incident has occurre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reates incident handling ticke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llects evidence related to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rafts final incident report for review with the Incident Response Lea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eets with IR Lead on a monthly basis to discuss open incident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SECURITY OPERATION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aintains security tools used by Sky Solutions Saa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onitors security health of networks and serv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rks with Incident Handlers during the Identify, Contain and Eradicate phas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alyzes events to correlate information and detect anomal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eets with the incident handlers to confirm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termines if incident is authentic or false positive in collaboration with Incident Handler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Usually the first to detect if an incident has occurre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ENGINEERING TEAM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llaborates with Incident Handlers to validate network and system evidenc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Supports configuration and patch manage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bility to pull data that can be analyzed for the Identify, Contain and Eradicate phases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evelops and deploys commercial application servic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tegrates the application services into the environm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ssists with log message deciphering 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vides details of the incident to the Handlers and Lead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LEGAL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ommunicates with government and law enforcement agencies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Must be contacted by the Lead when legal questions surrounding incident arise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Works closely with the entire incident handling team to get a detailed picture of the incident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rafts customer notification documents in case of data breach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QUESTIONS?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7229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Incident Response: Actions taken to deal with an incident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Oval 4"/>
          <p:cNvSpPr/>
          <p:nvPr/>
        </p:nvSpPr>
        <p:spPr>
          <a:xfrm>
            <a:off x="3200400" y="3733920"/>
            <a:ext cx="2133720" cy="2057400"/>
          </a:xfrm>
          <a:prstGeom prst="ellipse">
            <a:avLst/>
          </a:prstGeom>
          <a:noFill/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257800" y="5486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ncident Response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33520" y="4114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untermeasure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5410080" y="35812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tection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Line 8"/>
          <p:cNvSpPr/>
          <p:nvPr/>
        </p:nvSpPr>
        <p:spPr>
          <a:xfrm flipV="1">
            <a:off x="3200400" y="472428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Line 9"/>
          <p:cNvSpPr/>
          <p:nvPr/>
        </p:nvSpPr>
        <p:spPr>
          <a:xfrm>
            <a:off x="4191120" y="3733920"/>
            <a:ext cx="75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800600"/>
            <a:ext cx="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Line 12"/>
          <p:cNvSpPr/>
          <p:nvPr/>
        </p:nvSpPr>
        <p:spPr>
          <a:xfrm flipH="1">
            <a:off x="4267080" y="5791320"/>
            <a:ext cx="763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ATIONALE FOR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undance of Security-Related Vulnerabiliti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vailability of Attack Systems and Network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ctual and Potential Financial Los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otential for Adverse Media Exposure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Need for Efficiency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imitations in Intrusion Detection Capabilities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egal Consideration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Due care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rovisions of Law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 ARCHITECTURE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Policy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High-level description of essential elements of information security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o’s and Don’ts for users and sys admi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anctions for infractio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Describes security stance of the organization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2" marL="6397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anctioning of incident response capability: IR is a required function of inform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Annual Loss Expectancy (ALE)\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antitativ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Qualitativ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84040"/>
            <a:ext cx="7772400" cy="150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INCIDENT RESPONSE</a:t>
            </a:r>
            <a:br>
              <a:rPr sz="4000"/>
            </a:br>
            <a:r>
              <a:rPr b="0" lang="en-US" sz="4000" spc="-1" strike="noStrike">
                <a:solidFill>
                  <a:srgbClr val="099bdd"/>
                </a:solidFill>
                <a:latin typeface="Corbel"/>
              </a:rPr>
              <a:t>RISK ANALYSIS</a:t>
            </a:r>
            <a:endParaRPr b="0" lang="en-US" sz="4000" spc="-1" strike="noStrike">
              <a:solidFill>
                <a:srgbClr val="099bdd"/>
              </a:solidFill>
              <a:latin typeface="Corbe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2011320"/>
            <a:ext cx="7772400" cy="42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No generally accepted methodology for assessing risks.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rbel"/>
              </a:rPr>
              <a:t>Criteria:</a:t>
            </a:r>
            <a:endParaRPr b="0" lang="en-US" sz="22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Monetary cost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Operations impac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ublic relations fallout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lvl="1" marL="41112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ffffff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Impact on humans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4:55:18Z</dcterms:created>
  <dc:creator>Thomas Schwarz</dc:creator>
  <dc:description/>
  <dc:language>en-US</dc:language>
  <cp:lastModifiedBy>Michael Jones</cp:lastModifiedBy>
  <dcterms:modified xsi:type="dcterms:W3CDTF">2016-08-04T13:48:3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